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93F-842A-4ABC-BA94-D4960257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854-5A68-4784-934E-F97809C4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AFC-968D-45B8-A659-5955D02B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9DB-D405-4777-9A7A-5E28C465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773-236F-4D14-845E-34BFB911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76A-2CE7-45E0-9597-408A6331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F5B-A673-437D-8773-86DFC28F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90E-E67D-4350-863C-060865C7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734-1556-4715-90A2-1F0CB408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F34-2E4E-4451-B681-31F2FFB4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B01-CAD2-45C7-9DF6-377A66EB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643-F108-4BDD-8236-3CBF57F9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411C-0069-4655-82D8-F45203EB3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can 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b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5:05:18Z</dcterms:created>
  <dc:creator>sthobbsc</dc:creator>
  <dc:description/>
  <dc:language>en-US</dc:language>
  <cp:lastModifiedBy>sthobbsc</cp:lastModifiedBy>
  <dcterms:modified xsi:type="dcterms:W3CDTF">2007-01-04T15:05:26Z</dcterms:modified>
  <cp:revision>1</cp:revision>
  <dc:subject/>
  <dc:title>What can  I do?</dc:title>
</cp:coreProperties>
</file>